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7B5-F303-4FDD-8165-079D5DEC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B01-F685-4DC6-8B93-ABC08B1E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A3CE-08FD-4C10-870E-A678E09C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3250-57F9-4FA0-8145-1D102A66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F833-D46E-4EC5-9512-795FAB38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F2C-587E-4788-9C9C-49155B03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7DC-783A-43E6-BE97-F3125E5B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7044-7E4D-41C5-BC8D-86EE7A09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76E-5B3C-4C36-B460-2ED641F6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024-B758-4E9F-8ED9-3E2AC407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2378-3C4B-4504-B44C-DF0A124D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3C7A-B8C1-4AFC-9FF3-41B4CC8D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DEDC-E5D6-4C31-BE69-B5F8910E0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5 – India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name and a picture goes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poweruser</cp:lastModifiedBy>
  <dcterms:modified xsi:type="dcterms:W3CDTF">2011-11-28T15:51:10Z</dcterms:modified>
  <cp:revision>1</cp:revision>
  <dc:subject/>
  <dc:title>Chapter 5 – India Vocabulary</dc:title>
</cp:coreProperties>
</file>